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и оперативное 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07600"/>
            <a:ext cx="822960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завершения делопроизводственного года выдача сотрудникам отдельных документов из дела не допускается. При необходимости во временное пользование может быть выдано дело целиком. В этом случае составляет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рта-замест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й указы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выданн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вы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у выдано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кой с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пись в получении и приеме после возвращ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 выдаются во временное пользование сотрудникам организации на срок не более одного меся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общие требования при формировании дел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осуществляет контроль за правильным формированием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аких операций состоит работа по формированию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листов может быть помещено в де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специфику систематизации различных групп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E32F-196A-4EAD-88D1-1AB8095C6A0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6FF4-B69C-4C4B-B680-D099308D906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8876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окупность документов или документ, относящихся к одному вопросу или участку деятельности, помещенных в отдельную обложку. (ГОСТ Р51141-9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951360" y="1274760"/>
            <a:ext cx="1241280" cy="1022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дел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25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ирование исполненных документов в дело в соответствии с номенклатурой дел и систематизация документов внутр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Стрелка вниз 3"/>
          <p:cNvSpPr/>
          <p:nvPr/>
        </p:nvSpPr>
        <p:spPr>
          <a:xfrm>
            <a:off x="3768840" y="1274760"/>
            <a:ext cx="1350720" cy="13874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ребования при формировании дел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19160"/>
            <a:ext cx="82296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помещаются документы, которые по своему содержанию соответствуют заголовку дел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ы постоянного и временного хранения группируются в отдельные дела; Например, следует хранить в различных делах оригиналы и копии документов, годовые и квартальные планы работы и так далее, поскольку эти документы имеют различные срок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ложения к документам, независимо от дат их подписания или утверждения, присоединяют к документам, к которым они относятся; могут составлять отдельный том данного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включается по одному экземпляру каждого докумен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рещается включать копии и дубликаты. Исключение составляют черновые и дублетные материалы, копии, которые имеют резолюции, визы, пометки, являющиеся дополнением к основному докумен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группируются документы одного календарного года.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ключение составляю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ебны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чных дел (формируются в течение всего периода работы данного лица в организац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ор­ганов представительной власт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выборных органов, которые группируются за период их созы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учебных заведений, формирующихся в дела за учебный год и д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   в дела должны помещаться только исполненные документы, неисполненные подшивать запрещает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дела, по которым распределяются документы, должны точно соответствовать номенклатуре де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Работа по формированию дел состоит из следующих операций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ределение исполненных документов по делам в соответствии с номенклатурой де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ение документов внутри де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формление обложк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следовательности расположения документов в деле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12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хронологическая последовательнос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начиная от более ранних по датам документов и кончая более поздними дат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опрос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предполагает размещение документов в деле в логической последовательности решения вопросов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ационный  призна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группируются однородные документы, имеющие порядковую нумерацию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оминаль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в дела группируются документы одного вида (разновидности): протоколы, приказы, акты и т. д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рреспондентски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для группировки перепис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лфавитная последова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 обложку каждого заведенного дела выносятся следующие сведения: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руктурного подразделения организации, в котором оформилось дел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екс д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олов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листов в де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ок хранения дела (внизу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головок дела следует формулировать на основе элементов, располагаемых в следующей последовательности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документа (приказы, протоколы и т.д.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менование рода заводимого дела (переписка, документы, дел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 документа (название организации, подраздел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спондент (название организации, которой адресуются и от которой получают документы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прос или краткое содержание документов дел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местности (территории), с которой связано содержание документов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ты (период), к которым относятся документы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казание на копийность де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1:34Z</dcterms:modified>
  <cp:revision>134</cp:revision>
  <dc:subject/>
  <dc:title>Lecture Template </dc:title>
</cp:coreProperties>
</file>